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36BF-3FFE-4AE9-8E38-E12215472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449208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6C36-E6E4-4DE9-99EC-53AE4851D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4100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38B3-39CE-4661-9DF6-2D9DC15AD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528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5284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528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5284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FB25-3AF1-437A-A032-2A5763517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A6E7-EB23-4755-96ED-FA2A97626D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A4CF7-1F2E-4DE4-BA45-756FA28C4A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819D-6271-4488-A24D-4E00B4AEB7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4100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66CD4-DC23-4E95-A9CF-2EB538B535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ED5EA-1494-4285-922C-B51D62CBF6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5840"/>
            <a:ext cx="8385120" cy="87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63537-6D06-4BE9-90B2-7EE5E79368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4100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772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B2096-CC38-460D-A60E-5BE9499BD7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ED20-FD07-47C2-949F-E4798493C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4100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11125-7DF7-4AFD-9B93-D37528F890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7720" y="449208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4BAAC-30DE-49BE-B787-55D0542F05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37720" y="449208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1455-10EC-429B-9D33-925545AE0E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4100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564F3-A8A5-4C9C-A5C7-6E7BA63C9B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528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5284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3772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528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5284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1383-D05B-422D-AC2F-8F1A2872C6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4859-AD55-4EAA-9095-A6D25107F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4100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51C0C-3276-44D2-BE1B-8C34301BC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594F-F423-419E-9060-0E25CB49B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5840"/>
            <a:ext cx="8385120" cy="87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E256-676A-408A-AB68-1F5B22886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100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933B-D253-4F81-8880-95E948EC0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100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4100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EB446-B087-4840-B169-432AD08DA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100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449208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4C6A-45FF-4262-AD95-516DB5058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730640" y="6244920"/>
            <a:ext cx="311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6EDC-E1D5-4FBF-9E22-962C6B701D7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7730640" y="6244920"/>
            <a:ext cx="311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9E4B-A128-4FB0-BBBF-A6EBFEC1910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7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9" name="AutoShape 1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04" y="0"/>
                  </a:moveTo>
                  <a:lnTo>
                    <a:pt x="1296" y="8664"/>
                  </a:lnTo>
                  <a:lnTo>
                    <a:pt x="0" y="8664"/>
                  </a:lnTo>
                  <a:lnTo>
                    <a:pt x="23" y="2156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1304" y="0"/>
                  </a:lnTo>
                  <a:close/>
                  <a:moveTo>
                    <a:pt x="1304" y="0"/>
                  </a:moveTo>
                </a:path>
              </a:pathLst>
            </a:custGeom>
            <a:solidFill>
              <a:srgbClr val="006600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AutoShape 2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0066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AutoShape 3"/>
            <p:cNvSpPr/>
            <p:nvPr/>
          </p:nvSpPr>
          <p:spPr>
            <a:xfrm>
              <a:off x="318960" y="3773520"/>
              <a:ext cx="548496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4"/>
            <p:cNvSpPr/>
            <p:nvPr/>
          </p:nvSpPr>
          <p:spPr>
            <a:xfrm>
              <a:off x="838080" y="1752480"/>
              <a:ext cx="7769160" cy="4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AutoShape 5"/>
            <p:cNvSpPr/>
            <p:nvPr/>
          </p:nvSpPr>
          <p:spPr>
            <a:xfrm>
              <a:off x="318960" y="3773520"/>
              <a:ext cx="47520" cy="310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0880" y="21600"/>
                  </a:lnTo>
                  <a:lnTo>
                    <a:pt x="21600" y="412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AutoShape 6"/>
            <p:cNvSpPr/>
            <p:nvPr/>
          </p:nvSpPr>
          <p:spPr>
            <a:xfrm>
              <a:off x="838080" y="1752480"/>
              <a:ext cx="46080" cy="5119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0110" y="27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Marking the Text</a:t>
            </a:r>
            <a:endParaRPr b="0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962160"/>
            <a:ext cx="6781680" cy="289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9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8" name="AutoShape 1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0066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AutoShape 2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84" y="12027"/>
                  </a:moveTo>
                  <a:lnTo>
                    <a:pt x="0" y="12027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1284" y="0"/>
                  </a:lnTo>
                  <a:lnTo>
                    <a:pt x="1284" y="12027"/>
                  </a:lnTo>
                  <a:close/>
                  <a:moveTo>
                    <a:pt x="1284" y="12027"/>
                  </a:moveTo>
                </a:path>
              </a:pathLst>
            </a:custGeom>
            <a:solidFill>
              <a:srgbClr val="0066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AutoShape 3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AutoShape 5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0110" y="27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AutoShape 6"/>
            <p:cNvSpPr/>
            <p:nvPr/>
          </p:nvSpPr>
          <p:spPr>
            <a:xfrm>
              <a:off x="836640" y="4610160"/>
              <a:ext cx="45720" cy="224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21600"/>
                  </a:lnTo>
                  <a:lnTo>
                    <a:pt x="20855" y="366"/>
                  </a:lnTo>
                  <a:lnTo>
                    <a:pt x="0" y="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AutoShape 8"/>
            <p:cNvSpPr/>
            <p:nvPr/>
          </p:nvSpPr>
          <p:spPr>
            <a:xfrm>
              <a:off x="318960" y="4610160"/>
              <a:ext cx="47520" cy="224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0880" y="21600"/>
                  </a:lnTo>
                  <a:lnTo>
                    <a:pt x="21600" y="412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is Marking the Text?</a:t>
            </a: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A reading strategy that identifies information in the text that is relevant to the reading purp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3 distinct ma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Numbering Para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Underli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Circ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9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AutoShape 1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0066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2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84" y="12027"/>
                  </a:moveTo>
                  <a:lnTo>
                    <a:pt x="0" y="12027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1284" y="0"/>
                  </a:lnTo>
                  <a:lnTo>
                    <a:pt x="1284" y="12027"/>
                  </a:lnTo>
                  <a:close/>
                  <a:moveTo>
                    <a:pt x="1284" y="12027"/>
                  </a:moveTo>
                </a:path>
              </a:pathLst>
            </a:custGeom>
            <a:solidFill>
              <a:srgbClr val="0066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AutoShape 3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4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0110" y="27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6"/>
            <p:cNvSpPr/>
            <p:nvPr/>
          </p:nvSpPr>
          <p:spPr>
            <a:xfrm>
              <a:off x="836640" y="4610160"/>
              <a:ext cx="45720" cy="224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21600"/>
                  </a:lnTo>
                  <a:lnTo>
                    <a:pt x="20855" y="366"/>
                  </a:lnTo>
                  <a:lnTo>
                    <a:pt x="0" y="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7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318960" y="4610160"/>
              <a:ext cx="47520" cy="224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0880" y="21600"/>
                  </a:lnTo>
                  <a:lnTo>
                    <a:pt x="21600" y="412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umbering Paragraphs</a:t>
            </a: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Arial"/>
              </a:rPr>
              <a:t>Number each paragraph (even if it is 1 lin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Arial"/>
              </a:rPr>
              <a:t>Write the # near the paragraph indentation &amp; circle the #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# small enough so that you have room to write in the mar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9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0" name="AutoShape 1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0066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2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84" y="12027"/>
                  </a:moveTo>
                  <a:lnTo>
                    <a:pt x="0" y="12027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1284" y="0"/>
                  </a:lnTo>
                  <a:lnTo>
                    <a:pt x="1284" y="12027"/>
                  </a:lnTo>
                  <a:close/>
                  <a:moveTo>
                    <a:pt x="1284" y="12027"/>
                  </a:moveTo>
                </a:path>
              </a:pathLst>
            </a:custGeom>
            <a:solidFill>
              <a:srgbClr val="0066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3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AutoShape 4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5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0110" y="27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AutoShape 6"/>
            <p:cNvSpPr/>
            <p:nvPr/>
          </p:nvSpPr>
          <p:spPr>
            <a:xfrm>
              <a:off x="836640" y="4610160"/>
              <a:ext cx="45720" cy="224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21600"/>
                  </a:lnTo>
                  <a:lnTo>
                    <a:pt x="20855" y="366"/>
                  </a:lnTo>
                  <a:lnTo>
                    <a:pt x="0" y="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AutoShape 7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utoShape 8"/>
            <p:cNvSpPr/>
            <p:nvPr/>
          </p:nvSpPr>
          <p:spPr>
            <a:xfrm>
              <a:off x="318960" y="4610160"/>
              <a:ext cx="47520" cy="224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0880" y="21600"/>
                  </a:lnTo>
                  <a:lnTo>
                    <a:pt x="21600" y="412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le</a:t>
            </a: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Circle Key Terms, Names of People, Names of Places, and D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Terms= words or phrases that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epeated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used in a unique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defined by the author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entral idea 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used to explain or represent an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elevant to the reading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9"/>
          <p:cNvGrpSpPr/>
          <p:nvPr/>
        </p:nvGrpSpPr>
        <p:grpSpPr>
          <a:xfrm>
            <a:off x="316080" y="1833480"/>
            <a:ext cx="8824320" cy="5029200"/>
            <a:chOff x="316080" y="1833480"/>
            <a:chExt cx="8824320" cy="5029200"/>
          </a:xfrm>
        </p:grpSpPr>
        <p:sp>
          <p:nvSpPr>
            <p:cNvPr id="121" name="AutoShape 1"/>
            <p:cNvSpPr/>
            <p:nvPr/>
          </p:nvSpPr>
          <p:spPr>
            <a:xfrm>
              <a:off x="834840" y="4622760"/>
              <a:ext cx="8305560" cy="223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0066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2"/>
            <p:cNvSpPr/>
            <p:nvPr/>
          </p:nvSpPr>
          <p:spPr>
            <a:xfrm>
              <a:off x="330120" y="1833480"/>
              <a:ext cx="8810280" cy="502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84" y="12027"/>
                  </a:moveTo>
                  <a:lnTo>
                    <a:pt x="0" y="12027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1284" y="0"/>
                  </a:lnTo>
                  <a:lnTo>
                    <a:pt x="1284" y="12027"/>
                  </a:lnTo>
                  <a:close/>
                  <a:moveTo>
                    <a:pt x="1284" y="12027"/>
                  </a:moveTo>
                </a:path>
              </a:pathLst>
            </a:custGeom>
            <a:solidFill>
              <a:srgbClr val="0066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AutoShape 3"/>
            <p:cNvSpPr/>
            <p:nvPr/>
          </p:nvSpPr>
          <p:spPr>
            <a:xfrm>
              <a:off x="834840" y="4659120"/>
              <a:ext cx="8305560" cy="220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4"/>
            <p:cNvSpPr/>
            <p:nvPr/>
          </p:nvSpPr>
          <p:spPr>
            <a:xfrm>
              <a:off x="834840" y="1833480"/>
              <a:ext cx="7313400" cy="4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AutoShape 5"/>
            <p:cNvSpPr/>
            <p:nvPr/>
          </p:nvSpPr>
          <p:spPr>
            <a:xfrm>
              <a:off x="834840" y="1833480"/>
              <a:ext cx="45720" cy="28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0110" y="27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6"/>
            <p:cNvSpPr/>
            <p:nvPr/>
          </p:nvSpPr>
          <p:spPr>
            <a:xfrm>
              <a:off x="833400" y="4614840"/>
              <a:ext cx="45360" cy="224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21600"/>
                  </a:lnTo>
                  <a:lnTo>
                    <a:pt x="20855" y="366"/>
                  </a:lnTo>
                  <a:lnTo>
                    <a:pt x="0" y="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AutoShape 7"/>
            <p:cNvSpPr/>
            <p:nvPr/>
          </p:nvSpPr>
          <p:spPr>
            <a:xfrm>
              <a:off x="316080" y="4614840"/>
              <a:ext cx="4570200" cy="4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AutoShape 8"/>
            <p:cNvSpPr/>
            <p:nvPr/>
          </p:nvSpPr>
          <p:spPr>
            <a:xfrm>
              <a:off x="316080" y="4614840"/>
              <a:ext cx="47160" cy="224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0880" y="21600"/>
                  </a:lnTo>
                  <a:lnTo>
                    <a:pt x="21600" y="412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derline</a:t>
            </a: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ine an author’s cla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aim is a statement that is argued or asserted (declared; stated) by the auth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author’s make many cla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aim may not be written out in the 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aim can be found anywhere in the 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Underline relevant information as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acher</dc:creator>
  <dc:description/>
  <cp:keywords/>
  <dc:language>en-US</dc:language>
  <cp:lastModifiedBy>TylerDaughtry</cp:lastModifiedBy>
  <dcterms:modified xsi:type="dcterms:W3CDTF">2013-09-03T17:35:41Z</dcterms:modified>
  <cp:revision>2</cp:revision>
  <dc:subject/>
  <dc:title>Marking the Text</dc:title>
</cp:coreProperties>
</file>